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51560"/>
        <c:axId val="13493094"/>
      </c:barChart>
      <c:catAx>
        <c:axId val="52951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93094"/>
        <c:crosses val="autoZero"/>
        <c:auto val="1"/>
        <c:lblAlgn val="ctr"/>
        <c:lblOffset val="100"/>
        <c:noMultiLvlLbl val="0"/>
      </c:catAx>
      <c:valAx>
        <c:axId val="13493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51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EAE-8446-4084-B711-B8DEFC8E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913-8085-4681-B744-F6B4DD6C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A6C-AAA4-41C7-BAC8-FC4A780E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589-18BF-4DBA-A570-0018B474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AD4-5328-4925-9F6A-F7BF5BBA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36D-0244-492A-83ED-CEC3B247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7A3-9C01-4E4A-AD16-3D6137C4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211-6784-402F-B9B3-AE3E2312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666-EBE2-463B-8D0A-A16E1FE1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8ED-C6C9-4C59-AA42-FBE89B14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824-72CC-46AF-B178-0256C8C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909-7252-4EEE-AB6D-482BFF93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979B4-1465-4280-93AD-8DDA1AEE41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