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55329"/>
        <c:axId val="23590030"/>
      </c:barChart>
      <c:catAx>
        <c:axId val="97855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90030"/>
        <c:crosses val="autoZero"/>
        <c:auto val="1"/>
        <c:lblAlgn val="ctr"/>
        <c:lblOffset val="100"/>
        <c:noMultiLvlLbl val="0"/>
      </c:catAx>
      <c:valAx>
        <c:axId val="23590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55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9E5-2D21-4602-A747-C19ABD68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2C8-F337-41CD-B582-58EFDDA4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512-227A-45A3-8F73-B70390E6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BE9-5F63-4A1F-97FA-98B15D22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881-3C48-47BA-B963-85FD2676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8AD-1275-4F3A-8A09-BBDD1A67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774-0EEE-4DB3-AB8D-219F962A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FB7-3E9B-492A-89DB-7BAE0DB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76D-C78C-45B6-9822-056338E7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F53-5EEE-4F9A-813B-FD71A1B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2DA-A267-47DB-9735-2DAA372C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84E-5A7B-4DA6-BD67-C2A6995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EA7DC-48BD-4ED9-B8CE-93C70A526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