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96794"/>
        <c:axId val="11672320"/>
      </c:barChart>
      <c:catAx>
        <c:axId val="62496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2320"/>
        <c:crosses val="autoZero"/>
        <c:auto val="1"/>
        <c:lblAlgn val="ctr"/>
        <c:lblOffset val="100"/>
        <c:noMultiLvlLbl val="0"/>
      </c:catAx>
      <c:valAx>
        <c:axId val="11672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96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BD4-A8E0-4639-87E7-E2CA41BC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8B3-B26D-4C3B-8A39-5EB5635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6B8-88CD-45E0-A7AA-6F09909B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6CB-E352-4D80-8355-E4612794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287-4FFD-4509-8B1D-D57C053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1BA-AB09-44A3-9D20-9DD399A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40E-8FBF-456B-AA38-B14F9B0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8E4-5570-4A3E-9CF6-8208E32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AA3-4EAB-47CB-93C8-31FD843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B6D-6B47-4221-A11D-5DD6816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EEB-8849-462A-A0D0-5956613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25F-8887-4284-BC51-22705DF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002D-398D-4ECE-81F9-E8C0E9906F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