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48714"/>
        <c:axId val="6990314"/>
      </c:barChart>
      <c:catAx>
        <c:axId val="43948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0314"/>
        <c:crosses val="autoZero"/>
        <c:auto val="1"/>
        <c:lblAlgn val="ctr"/>
        <c:lblOffset val="100"/>
        <c:noMultiLvlLbl val="0"/>
      </c:catAx>
      <c:valAx>
        <c:axId val="6990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48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DF1-561B-44D8-B46C-1B529A36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846-483A-43D8-A111-54A1295C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E69-D0A2-4D16-9C8D-587D3740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390-502B-4105-AFBC-B945BF8C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166-9136-45A8-8A69-306D022A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630-F9B8-4386-9E6D-B4C85581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7D3-CC5E-481F-B354-FA38B4A1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73A-42DD-4604-B8C3-8689BC71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3A1-DCD8-4C9C-97F8-4F1497E8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75F-BDCC-488F-BF00-A9850138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CAE-0DA8-42C3-8EEF-B1A0F4E8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BA4-19AC-411F-90BD-4CEDCB54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4994A-59E8-4406-94D5-0AFC92E03C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