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31182"/>
        <c:axId val="93110025"/>
      </c:barChart>
      <c:catAx>
        <c:axId val="13331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0025"/>
        <c:crosses val="autoZero"/>
        <c:auto val="1"/>
        <c:lblAlgn val="ctr"/>
        <c:lblOffset val="100"/>
        <c:noMultiLvlLbl val="0"/>
      </c:catAx>
      <c:valAx>
        <c:axId val="93110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1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520-117E-49DE-B673-F6897617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BDA-7AC2-4C7A-8F93-A040B0A0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2B4-DD7D-4523-87D3-6F797869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2A7-FF38-445F-8974-F8AE8695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7FF-5F59-489E-AE11-C2972B16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3DD-04B0-43F6-AC11-CFA75643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3C8-0314-49BE-9B16-F81DA124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8D3-6CA9-426F-B855-17846584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DCE-3A70-4160-93B8-AE337438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DF7-948B-4B4D-976C-EE0D183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7FF-3689-4BAF-BA11-5649876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757-8BB1-4451-B4C5-0728C70E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E2195-1EED-4DF2-9112-0CDEC7C87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