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438605"/>
        <c:axId val="1162182"/>
      </c:barChart>
      <c:catAx>
        <c:axId val="664386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62182"/>
        <c:crosses val="autoZero"/>
        <c:auto val="1"/>
        <c:lblAlgn val="ctr"/>
        <c:lblOffset val="100"/>
        <c:noMultiLvlLbl val="0"/>
      </c:catAx>
      <c:valAx>
        <c:axId val="11621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386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9939-431E-4E33-A7E7-DDF2C07A1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F0DD-4E68-4570-BBAC-05916E1D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40BE-ADCC-44C1-A556-08DE8F61C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55F7-5F1D-4A91-8374-8FADA670B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2476-D740-4175-8047-DC3FAE64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C9F8-64D5-4B8B-9DB4-DE64E7E4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2389-7FFF-4737-A36D-EBF70A53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64A5-D827-41F2-A74B-6EF316D0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0F4F-FD51-4A99-A79B-1CFAC0AE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4A95-E9E3-4DB5-9939-52818A3F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B0CC-463B-46C6-85DC-A9DFBA51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4747-E3E5-402B-9E27-17D9C57F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9A2C0-74F6-4CFE-81E5-B039135FC0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