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87665"/>
        <c:axId val="46208510"/>
      </c:barChart>
      <c:catAx>
        <c:axId val="14487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08510"/>
        <c:crosses val="autoZero"/>
        <c:auto val="1"/>
        <c:lblAlgn val="ctr"/>
        <c:lblOffset val="100"/>
        <c:noMultiLvlLbl val="0"/>
      </c:catAx>
      <c:valAx>
        <c:axId val="46208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87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25D-6829-47DA-A75D-679820AE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B909-3F6C-47DD-AED6-8395A5EE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321-B173-4D6A-B6A1-F371FEB9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5AC-B9FB-4257-832C-F61FAFF8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435-A5D7-41E3-8BA2-35429337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BBE-1FB1-4376-AADE-06087D89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4F8-2848-4DF7-8D2A-F9D87E28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5EE-FC22-499B-B4F2-054517D5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AC7-1660-400F-9E24-44BDEFFC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600-33DF-4FAF-B2B7-645B0D10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95F-28E4-4E0D-AE79-6CD3D4E1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CF9-1D1F-45F1-9D4E-46B6FB84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A1844-8EF7-4199-AF27-32B4837489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