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380062"/>
        <c:axId val="26113748"/>
      </c:barChart>
      <c:catAx>
        <c:axId val="9838006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113748"/>
        <c:crosses val="autoZero"/>
        <c:auto val="1"/>
        <c:lblAlgn val="ctr"/>
        <c:lblOffset val="100"/>
        <c:noMultiLvlLbl val="0"/>
      </c:catAx>
      <c:valAx>
        <c:axId val="261137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38006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E6BD-AB53-4155-9958-A3D95002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C9C2-7761-4B48-9978-5885C9636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0E1F-2571-42F0-A21E-6DE213E61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D079-C29C-41AE-BF82-2E9118A9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D404-EDCE-4448-9D26-81395B03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0B17-FDF8-492C-962E-1059A0F28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AB11-4F7B-4610-8443-8D323E7B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D8A2E-FC86-4275-A01B-4D30E9AF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BE5E-94C9-4591-B4E5-1CD2A41A6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E1C78-CBED-40E9-9627-43BA440F8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E7C5-A79A-4D0B-BD3B-671C1841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FFE2-EBEE-4C0E-89FE-91EC9C81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8CBF8-C78F-4722-B8F5-222E6F9D1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