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64941"/>
        <c:axId val="1570565"/>
      </c:barChart>
      <c:catAx>
        <c:axId val="61064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0565"/>
        <c:crosses val="autoZero"/>
        <c:auto val="1"/>
        <c:lblAlgn val="ctr"/>
        <c:lblOffset val="100"/>
        <c:noMultiLvlLbl val="0"/>
      </c:catAx>
      <c:valAx>
        <c:axId val="1570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64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D91-7944-40DD-82C2-5A2DC685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16C-6B30-4BA7-B26D-2EC99E3C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394-5D4C-4CE4-AE5B-F6361301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CD2-31A1-4A60-9970-A94F9BD3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7EB-80C6-4BC3-9CAE-3DC1EF72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E5F-E195-4AE4-B5DC-59498403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0DB-6F54-41DB-BE77-72E9CB69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F02-6B40-47D4-8A67-DFDF1954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1E9-70AD-4461-BD44-4FD93E1B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EF4-FFF0-4A6B-9904-5DD4CAC8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E11-ACA0-4FA1-BA23-84E42E76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441-C23C-4490-A53F-CE79BEA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77858-09B2-4D96-831F-45E5B6591D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