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561241"/>
        <c:axId val="68035672"/>
      </c:barChart>
      <c:catAx>
        <c:axId val="235612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35672"/>
        <c:crosses val="autoZero"/>
        <c:auto val="1"/>
        <c:lblAlgn val="ctr"/>
        <c:lblOffset val="100"/>
        <c:noMultiLvlLbl val="0"/>
      </c:catAx>
      <c:valAx>
        <c:axId val="680356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612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0A7-46F2-4B0F-B306-7D601781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1A7-EB77-4488-930E-8554BB43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24B5-5151-4FAF-9B47-3F85AE1F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51C1-9DA4-4FC0-989A-8F05389F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7EC3-27C4-4CD5-B40D-797E336A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4ABB-9A26-411C-9AE5-829D4799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8F6E-2C7C-484F-B918-F9DC8F11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4909-215D-41C5-BE51-46556C2F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A294-C2A3-43DC-869A-55EFCA52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91E-D2A2-41CE-B26C-218BF96A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E596-FFCE-4D44-99AB-B7D4A355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DE0-9467-455D-B886-40302B74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670B2-ECC5-456F-BE9D-775EB63442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